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010B-4DD4-4C7E-B01A-400AA781BD5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CF9-AF59-437B-87A0-174255B342F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logster.com/glog.php?glog_id=10884793&amp;scale=54&amp;isprofile=true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B1B-3067-4B41-91DE-35AEC8CC09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F3E8-274E-42C2-A009-87C189C686C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B9C8-755E-43DD-9D73-17B06BC52BE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2B4-3E3B-4907-9F55-8668A03F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01A-3A26-4288-A257-DD12A22D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8A8-D406-4F58-A680-02346630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C37-6D7B-4379-B985-B57D7CBB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546-C558-478E-BF26-9EB9827E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333-1634-43EC-ABD5-84114AB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E92-2309-449F-BDBC-9C7F3A69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250-11A8-456B-BCDA-77C4191F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2B7-B05B-4CF5-906E-FB51ECE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AEF-FE22-4EB4-AC9E-0DB85F9C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FF5-E00D-40C4-A7C2-00721D3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C9E-15D3-4238-A77C-DF24C9F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618-F5EF-4C54-AE72-E9419CB7883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enzymes/enzym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s &amp; Activation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173480" y="407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all chemical reactions require an initial input of energy, called </a:t>
            </a:r>
            <a:r>
              <a:rPr b="1" lang="en-CA" sz="31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1" lang="en-CA" sz="31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ext Placeholder 2" descr=""/>
          <p:cNvPicPr/>
          <p:nvPr/>
        </p:nvPicPr>
        <p:blipFill>
          <a:blip r:embed="rId1"/>
          <a:stretch/>
        </p:blipFill>
        <p:spPr>
          <a:xfrm>
            <a:off x="4881600" y="1600200"/>
            <a:ext cx="3576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 and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ext Placeholder 2" descr=""/>
          <p:cNvPicPr/>
          <p:nvPr/>
        </p:nvPicPr>
        <p:blipFill>
          <a:blip r:embed="rId1"/>
          <a:stretch/>
        </p:blipFill>
        <p:spPr>
          <a:xfrm>
            <a:off x="1595520" y="1600200"/>
            <a:ext cx="595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 increase the rate of a reaction by lowering the activation energy (E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w is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reduc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ak bonds form between substrate and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 provides proper orientation of substrate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 puts strain on bonds of substrate(s), making them easier to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ation Energy &amp; Enzym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manasinc.com/webcontent/animations/content/enzymes/enzyme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0:10:58Z</dcterms:created>
  <dc:creator>jen</dc:creator>
  <dc:description/>
  <dc:language>en-US</dc:language>
  <cp:lastModifiedBy>rubina khan</cp:lastModifiedBy>
  <dcterms:modified xsi:type="dcterms:W3CDTF">2013-09-19T15:36:17Z</dcterms:modified>
  <cp:revision>186</cp:revision>
  <dc:subject/>
  <dc:title>Enzymes</dc:title>
</cp:coreProperties>
</file>